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5.png" ContentType="image/png"/>
  <Override PartName="/ppt/media/image14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EDA2-0E12-43AD-AF45-7C8517203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3E8D-B342-4C7B-A23D-8A9F2E452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1107-FC22-4FF0-A13E-830C0FDE2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F5C8-1804-46E6-870E-98715F3C2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B9AF-27E0-46EE-8B6C-A83691C19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D7B3-5C3E-41A9-B163-3C0EC016C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DA30-5A2C-43DE-96BF-DF46BC609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8AD1-A81F-4303-B754-F58FF67E6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02AF-7C87-483F-9C91-A9622D74F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802C-742C-4907-BB7A-D2F5ED2A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35C1-035F-4935-9659-68889739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016F-0B72-41CA-9051-9F05A636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2DC40-C057-4B16-A6AB-C1A1C5F8E557}" type="slidenum">
              <a:rPr b="0" lang="pt-P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pn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2123640" y="2708280"/>
            <a:ext cx="525636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Equilíbrio Energético e Atividade Fís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4788000" y="5229360"/>
            <a:ext cx="40320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Professora Isabel Milheiro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Professor António Alme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Agrupamento Escolas D. Pedro 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EB 2,3 de Canide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3898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Natação - Craw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5003640" y="5157720"/>
          <a:ext cx="3754440" cy="1371600"/>
        </p:xfrm>
        <a:graphic>
          <a:graphicData uri="http://schemas.openxmlformats.org/drawingml/2006/table">
            <a:tbl>
              <a:tblPr/>
              <a:tblGrid>
                <a:gridCol w="1878120"/>
                <a:gridCol w="187632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to Energético (Kcal)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K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K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3" name="Picture 18" descr="stock-photo-man-swimming-during-a-competition-17370565"/>
          <p:cNvPicPr/>
          <p:nvPr/>
        </p:nvPicPr>
        <p:blipFill>
          <a:blip r:embed="rId1"/>
          <a:stretch/>
        </p:blipFill>
        <p:spPr>
          <a:xfrm>
            <a:off x="539640" y="1519200"/>
            <a:ext cx="4896000" cy="34671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9"/>
          <p:cNvSpPr/>
          <p:nvPr/>
        </p:nvSpPr>
        <p:spPr>
          <a:xfrm>
            <a:off x="1547640" y="4797360"/>
            <a:ext cx="273708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45352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Basquetebol - j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042920" y="5084640"/>
          <a:ext cx="3754440" cy="1371600"/>
        </p:xfrm>
        <a:graphic>
          <a:graphicData uri="http://schemas.openxmlformats.org/drawingml/2006/table">
            <a:tbl>
              <a:tblPr/>
              <a:tblGrid>
                <a:gridCol w="1878120"/>
                <a:gridCol w="187632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to Energético (Kcal)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K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K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7" name="Picture 17" descr="88066725"/>
          <p:cNvPicPr/>
          <p:nvPr/>
        </p:nvPicPr>
        <p:blipFill>
          <a:blip r:embed="rId1"/>
          <a:stretch/>
        </p:blipFill>
        <p:spPr>
          <a:xfrm>
            <a:off x="179280" y="1268280"/>
            <a:ext cx="4535640" cy="30322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20"/>
          <p:cNvSpPr/>
          <p:nvPr/>
        </p:nvSpPr>
        <p:spPr>
          <a:xfrm>
            <a:off x="5219640" y="836640"/>
            <a:ext cx="392436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Futebol - j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1" descr="107428960"/>
          <p:cNvPicPr/>
          <p:nvPr/>
        </p:nvPicPr>
        <p:blipFill>
          <a:blip r:embed="rId2"/>
          <a:stretch/>
        </p:blipFill>
        <p:spPr>
          <a:xfrm>
            <a:off x="5435640" y="2133720"/>
            <a:ext cx="314784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5113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Bicicleta montanh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5003640" y="5157720"/>
          <a:ext cx="3754440" cy="1371600"/>
        </p:xfrm>
        <a:graphic>
          <a:graphicData uri="http://schemas.openxmlformats.org/drawingml/2006/table">
            <a:tbl>
              <a:tblPr/>
              <a:tblGrid>
                <a:gridCol w="1878120"/>
                <a:gridCol w="187632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to Energético (Kcal)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K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K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2" name="Picture 17" descr="86541602"/>
          <p:cNvPicPr/>
          <p:nvPr/>
        </p:nvPicPr>
        <p:blipFill>
          <a:blip r:embed="rId1"/>
          <a:stretch/>
        </p:blipFill>
        <p:spPr>
          <a:xfrm>
            <a:off x="324000" y="2276640"/>
            <a:ext cx="2390760" cy="35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16360" y="-360"/>
            <a:ext cx="414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Verdana"/>
              </a:rPr>
              <a:t>Quantas calori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105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MacChick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                             </a:t>
            </a: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Batata Médi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+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Cola M</a:t>
            </a:r>
            <a:r>
              <a:rPr b="1" lang="pt-PT" sz="1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+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Sundae de Chocol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1" lang="pt-PT" sz="2400" spc="-1" strike="noStrike">
                <a:solidFill>
                  <a:srgbClr val="000000"/>
                </a:solidFill>
                <a:latin typeface="Verdana"/>
              </a:rPr>
              <a:t>1201 K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Object 2"/>
          <p:cNvGraphicFramePr/>
          <p:nvPr/>
        </p:nvGraphicFramePr>
        <p:xfrm>
          <a:off x="2340000" y="1268280"/>
          <a:ext cx="1458720" cy="138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268280"/>
                    <a:ext cx="145872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7" name="Picture 3" descr="sundae_chocolate"/>
          <p:cNvPicPr/>
          <p:nvPr/>
        </p:nvPicPr>
        <p:blipFill>
          <a:blip r:embed="rId3"/>
          <a:stretch/>
        </p:blipFill>
        <p:spPr>
          <a:xfrm>
            <a:off x="395280" y="4437000"/>
            <a:ext cx="1312920" cy="882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bebidas"/>
          <p:cNvPicPr/>
          <p:nvPr/>
        </p:nvPicPr>
        <p:blipFill>
          <a:blip r:embed="rId4"/>
          <a:stretch/>
        </p:blipFill>
        <p:spPr>
          <a:xfrm>
            <a:off x="2487600" y="3459240"/>
            <a:ext cx="1362240" cy="914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batata_grande"/>
          <p:cNvPicPr/>
          <p:nvPr/>
        </p:nvPicPr>
        <p:blipFill>
          <a:blip r:embed="rId5"/>
          <a:stretch/>
        </p:blipFill>
        <p:spPr>
          <a:xfrm>
            <a:off x="250920" y="2421000"/>
            <a:ext cx="1552320" cy="1042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"/>
          <p:cNvPicPr/>
          <p:nvPr/>
        </p:nvPicPr>
        <p:blipFill>
          <a:blip r:embed="rId6"/>
          <a:stretch/>
        </p:blipFill>
        <p:spPr>
          <a:xfrm>
            <a:off x="6516720" y="1557360"/>
            <a:ext cx="2376360" cy="15620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1"/>
          <p:cNvSpPr/>
          <p:nvPr/>
        </p:nvSpPr>
        <p:spPr>
          <a:xfrm>
            <a:off x="4643280" y="1916280"/>
            <a:ext cx="4249800" cy="40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500" spc="-1" strike="noStrike">
                <a:solidFill>
                  <a:srgbClr val="000000"/>
                </a:solidFill>
                <a:latin typeface="Verdana"/>
              </a:rPr>
              <a:t>Pizza Méd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5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500" spc="-1" strike="noStrike">
                <a:solidFill>
                  <a:srgbClr val="000000"/>
                </a:solidFill>
                <a:latin typeface="Verdana"/>
              </a:rPr>
              <a:t>Mousse de Chocola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5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500" spc="-1" strike="noStrike">
                <a:solidFill>
                  <a:srgbClr val="000000"/>
                </a:solidFill>
                <a:latin typeface="Verdana"/>
              </a:rPr>
              <a:t>Cola Méd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1" lang="pt-PT" sz="2400" spc="-1" strike="noStrike">
                <a:solidFill>
                  <a:srgbClr val="000000"/>
                </a:solidFill>
                <a:latin typeface="Verdana"/>
              </a:rPr>
              <a:t>1497 K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2" descr="82659783"/>
          <p:cNvPicPr/>
          <p:nvPr/>
        </p:nvPicPr>
        <p:blipFill>
          <a:blip r:embed="rId7"/>
          <a:stretch/>
        </p:blipFill>
        <p:spPr>
          <a:xfrm>
            <a:off x="4989600" y="2421000"/>
            <a:ext cx="1095120" cy="1584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3" descr="86364916, Kutay Tanir /Photodisc"/>
          <p:cNvPicPr/>
          <p:nvPr/>
        </p:nvPicPr>
        <p:blipFill>
          <a:blip r:embed="rId8"/>
          <a:stretch/>
        </p:blipFill>
        <p:spPr>
          <a:xfrm>
            <a:off x="7524720" y="4076640"/>
            <a:ext cx="862200" cy="1440000"/>
          </a:xfrm>
          <a:prstGeom prst="rect">
            <a:avLst/>
          </a:prstGeom>
          <a:ln w="0">
            <a:noFill/>
          </a:ln>
        </p:spPr>
      </p:pic>
      <p:grpSp>
        <p:nvGrpSpPr>
          <p:cNvPr id="94" name="Retângulo de cantos arredondados 16"/>
          <p:cNvGrpSpPr/>
          <p:nvPr/>
        </p:nvGrpSpPr>
        <p:grpSpPr>
          <a:xfrm>
            <a:off x="-30240" y="1311120"/>
            <a:ext cx="4486320" cy="4956480"/>
            <a:chOff x="-30240" y="1311120"/>
            <a:chExt cx="4486320" cy="4956480"/>
          </a:xfrm>
        </p:grpSpPr>
        <p:pic>
          <p:nvPicPr>
            <p:cNvPr id="95" name="Retângulo de cantos arredondados 16" descr=""/>
            <p:cNvPicPr/>
            <p:nvPr/>
          </p:nvPicPr>
          <p:blipFill>
            <a:blip r:embed="rId9"/>
            <a:stretch/>
          </p:blipFill>
          <p:spPr>
            <a:xfrm>
              <a:off x="-30240" y="1311120"/>
              <a:ext cx="4486320" cy="495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216000" y="1557360"/>
              <a:ext cx="3995640" cy="446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Retângulo de cantos arredondados 17"/>
          <p:cNvGrpSpPr/>
          <p:nvPr/>
        </p:nvGrpSpPr>
        <p:grpSpPr>
          <a:xfrm>
            <a:off x="4535640" y="1305000"/>
            <a:ext cx="4468680" cy="5040360"/>
            <a:chOff x="4535640" y="1305000"/>
            <a:chExt cx="4468680" cy="5040360"/>
          </a:xfrm>
        </p:grpSpPr>
        <p:pic>
          <p:nvPicPr>
            <p:cNvPr id="98" name="Retângulo de cantos arredondados 17" descr=""/>
            <p:cNvPicPr/>
            <p:nvPr/>
          </p:nvPicPr>
          <p:blipFill>
            <a:blip r:embed="rId10"/>
            <a:stretch/>
          </p:blipFill>
          <p:spPr>
            <a:xfrm>
              <a:off x="4535640" y="1305000"/>
              <a:ext cx="4468680" cy="504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786200" y="1555920"/>
              <a:ext cx="3963960" cy="453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20000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Verdana"/>
              </a:rPr>
              <a:t>Quanto tempo para gastar estas calori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3960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MacChicken   </a:t>
            </a: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Batata Médi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+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Cola M</a:t>
            </a:r>
            <a:r>
              <a:rPr b="1" lang="pt-PT" sz="1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dia</a:t>
            </a: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+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Sundae de Chocol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1" lang="pt-PT" sz="2400" spc="-1" strike="noStrike">
                <a:solidFill>
                  <a:srgbClr val="000000"/>
                </a:solidFill>
                <a:latin typeface="Verdana"/>
              </a:rPr>
              <a:t>1201 K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Object 2"/>
          <p:cNvGraphicFramePr/>
          <p:nvPr/>
        </p:nvGraphicFramePr>
        <p:xfrm>
          <a:off x="2627280" y="1052640"/>
          <a:ext cx="1459080" cy="138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1052640"/>
                    <a:ext cx="145908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4" name="Picture 3" descr="sundae_chocolate"/>
          <p:cNvPicPr/>
          <p:nvPr/>
        </p:nvPicPr>
        <p:blipFill>
          <a:blip r:embed="rId3"/>
          <a:stretch/>
        </p:blipFill>
        <p:spPr>
          <a:xfrm>
            <a:off x="611280" y="4508640"/>
            <a:ext cx="1312920" cy="882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bebidas"/>
          <p:cNvPicPr/>
          <p:nvPr/>
        </p:nvPicPr>
        <p:blipFill>
          <a:blip r:embed="rId4"/>
          <a:stretch/>
        </p:blipFill>
        <p:spPr>
          <a:xfrm>
            <a:off x="2916360" y="3429000"/>
            <a:ext cx="1361880" cy="914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batata_grande"/>
          <p:cNvPicPr/>
          <p:nvPr/>
        </p:nvPicPr>
        <p:blipFill>
          <a:blip r:embed="rId5"/>
          <a:stretch/>
        </p:blipFill>
        <p:spPr>
          <a:xfrm>
            <a:off x="684360" y="2421000"/>
            <a:ext cx="1552320" cy="1042920"/>
          </a:xfrm>
          <a:prstGeom prst="rect">
            <a:avLst/>
          </a:prstGeom>
          <a:ln w="0">
            <a:noFill/>
          </a:ln>
        </p:spPr>
      </p:pic>
      <p:grpSp>
        <p:nvGrpSpPr>
          <p:cNvPr id="107" name="Retângulo de cantos arredondados 16"/>
          <p:cNvGrpSpPr/>
          <p:nvPr/>
        </p:nvGrpSpPr>
        <p:grpSpPr>
          <a:xfrm>
            <a:off x="219240" y="1238400"/>
            <a:ext cx="4492440" cy="4954320"/>
            <a:chOff x="219240" y="1238400"/>
            <a:chExt cx="4492440" cy="4954320"/>
          </a:xfrm>
        </p:grpSpPr>
        <p:pic>
          <p:nvPicPr>
            <p:cNvPr id="108" name="Retângulo de cantos arredondados 16" descr=""/>
            <p:cNvPicPr/>
            <p:nvPr/>
          </p:nvPicPr>
          <p:blipFill>
            <a:blip r:embed="rId6"/>
            <a:stretch/>
          </p:blipFill>
          <p:spPr>
            <a:xfrm>
              <a:off x="219240" y="1238400"/>
              <a:ext cx="4492440" cy="495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468360" y="1484280"/>
              <a:ext cx="3995640" cy="446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0" name=""/>
          <p:cNvGraphicFramePr/>
          <p:nvPr/>
        </p:nvGraphicFramePr>
        <p:xfrm>
          <a:off x="5219640" y="1700280"/>
          <a:ext cx="3672000" cy="4103640"/>
        </p:xfrm>
        <a:graphic>
          <a:graphicData uri="http://schemas.openxmlformats.org/drawingml/2006/table">
            <a:tbl>
              <a:tblPr/>
              <a:tblGrid>
                <a:gridCol w="1224000"/>
                <a:gridCol w="1224000"/>
                <a:gridCol w="1224000"/>
              </a:tblGrid>
              <a:tr h="658080">
                <a:tc rowSpan="2"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vidade fís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bb8"/>
                    </a:solidFill>
                  </a:tcPr>
                </a:tc>
                <a:tc gridSpan="2"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asto Energético (Kcal/h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bb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 k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 k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437400"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r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h32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h50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437400"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nç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h32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h54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437400"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kate/Corri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h29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h10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437400"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ta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h11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h55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742320"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quetebol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teb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h11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h55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435600"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T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h04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h45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</p:spTree>
  </p:cSld>
  <p:transition spd="slow" advTm="20000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0" descr=""/>
          <p:cNvPicPr/>
          <p:nvPr/>
        </p:nvPicPr>
        <p:blipFill>
          <a:blip r:embed="rId1"/>
          <a:stretch/>
        </p:blipFill>
        <p:spPr>
          <a:xfrm>
            <a:off x="6516720" y="1557360"/>
            <a:ext cx="2376360" cy="15620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4643280" y="1916280"/>
            <a:ext cx="4249800" cy="40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500" spc="-1" strike="noStrike">
                <a:solidFill>
                  <a:srgbClr val="000000"/>
                </a:solidFill>
                <a:latin typeface="Verdana"/>
              </a:rPr>
              <a:t>Pizza Méd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5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500" spc="-1" strike="noStrike">
                <a:solidFill>
                  <a:srgbClr val="000000"/>
                </a:solidFill>
                <a:latin typeface="Verdana"/>
              </a:rPr>
              <a:t>Mousse de Chocola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5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500" spc="-1" strike="noStrike">
                <a:solidFill>
                  <a:srgbClr val="000000"/>
                </a:solidFill>
                <a:latin typeface="Verdana"/>
              </a:rPr>
              <a:t>Cola Méd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1" lang="pt-PT" sz="2400" spc="-1" strike="noStrike">
                <a:solidFill>
                  <a:srgbClr val="000000"/>
                </a:solidFill>
                <a:latin typeface="Verdana"/>
              </a:rPr>
              <a:t>1497 K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2" descr="82659783"/>
          <p:cNvPicPr/>
          <p:nvPr/>
        </p:nvPicPr>
        <p:blipFill>
          <a:blip r:embed="rId2"/>
          <a:stretch/>
        </p:blipFill>
        <p:spPr>
          <a:xfrm>
            <a:off x="4989600" y="2421000"/>
            <a:ext cx="1095120" cy="1584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3" descr="86364916, Kutay Tanir /Photodisc"/>
          <p:cNvPicPr/>
          <p:nvPr/>
        </p:nvPicPr>
        <p:blipFill>
          <a:blip r:embed="rId3"/>
          <a:stretch/>
        </p:blipFill>
        <p:spPr>
          <a:xfrm>
            <a:off x="7524720" y="4076640"/>
            <a:ext cx="862200" cy="1440000"/>
          </a:xfrm>
          <a:prstGeom prst="rect">
            <a:avLst/>
          </a:prstGeom>
          <a:ln w="0">
            <a:noFill/>
          </a:ln>
        </p:spPr>
      </p:pic>
      <p:grpSp>
        <p:nvGrpSpPr>
          <p:cNvPr id="115" name="Retângulo de cantos arredondados 17"/>
          <p:cNvGrpSpPr/>
          <p:nvPr/>
        </p:nvGrpSpPr>
        <p:grpSpPr>
          <a:xfrm>
            <a:off x="4638600" y="1305000"/>
            <a:ext cx="4469040" cy="5040360"/>
            <a:chOff x="4638600" y="1305000"/>
            <a:chExt cx="4469040" cy="5040360"/>
          </a:xfrm>
        </p:grpSpPr>
        <p:pic>
          <p:nvPicPr>
            <p:cNvPr id="116" name="Retângulo de cantos arredondados 17" descr=""/>
            <p:cNvPicPr/>
            <p:nvPr/>
          </p:nvPicPr>
          <p:blipFill>
            <a:blip r:embed="rId4"/>
            <a:stretch/>
          </p:blipFill>
          <p:spPr>
            <a:xfrm>
              <a:off x="4638600" y="1305000"/>
              <a:ext cx="4469040" cy="504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4890960" y="1555920"/>
              <a:ext cx="3963960" cy="453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8" name=""/>
          <p:cNvGraphicFramePr/>
          <p:nvPr/>
        </p:nvGraphicFramePr>
        <p:xfrm>
          <a:off x="250920" y="1557360"/>
          <a:ext cx="4319640" cy="4749840"/>
        </p:xfrm>
        <a:graphic>
          <a:graphicData uri="http://schemas.openxmlformats.org/drawingml/2006/table">
            <a:tbl>
              <a:tblPr/>
              <a:tblGrid>
                <a:gridCol w="1439640"/>
                <a:gridCol w="1440000"/>
                <a:gridCol w="1440000"/>
              </a:tblGrid>
              <a:tr h="776160">
                <a:tc rowSpan="2"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vidade fís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bb8"/>
                    </a:solidFill>
                  </a:tcPr>
                </a:tc>
                <a:tc gridSpan="2"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asto Energético (Kcal/h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bb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5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 k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 k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516240"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r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h53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h02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515880"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nç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h37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h10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515880"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kate/Corri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h05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h42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515880"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ta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h44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h23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878040"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quetebol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teb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h44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h23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515880"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T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h34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h10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  <p:sp>
        <p:nvSpPr>
          <p:cNvPr id="119" name="Rectangle 9"/>
          <p:cNvSpPr/>
          <p:nvPr/>
        </p:nvSpPr>
        <p:spPr>
          <a:xfrm>
            <a:off x="826920" y="0"/>
            <a:ext cx="76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Verdana"/>
              </a:rPr>
              <a:t>Quanto tempo para gastar estas calori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432108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Vida act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395280" y="1268280"/>
            <a:ext cx="4032360" cy="46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egundo a Organização Mundial de Saúde, “o exercício físico regular tal como caminhar, andar de bicicleta ou dançar, não só nos faz sentir bem, como tem significativos benefícios para a saúde (…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Envolver-se numa actividade física, aumenta também as oportunidades para fazer amigos e de se sentir integrado na comunida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PEQUENAS MUDANÇAS FAZEM A DIFERENÇA!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88551646"/>
          <p:cNvPicPr/>
          <p:nvPr/>
        </p:nvPicPr>
        <p:blipFill>
          <a:blip r:embed="rId1"/>
          <a:stretch/>
        </p:blipFill>
        <p:spPr>
          <a:xfrm>
            <a:off x="4570560" y="981000"/>
            <a:ext cx="457344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1603440" y="446040"/>
            <a:ext cx="638640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5b7b8c"/>
                </a:solidFill>
                <a:latin typeface="DIN-Medium"/>
              </a:rPr>
              <a:t>Equil</a:t>
            </a:r>
            <a:r>
              <a:rPr b="0" lang="pt-PT" sz="3000" spc="-1" strike="noStrike">
                <a:solidFill>
                  <a:srgbClr val="5b7b8c"/>
                </a:solidFill>
                <a:latin typeface="DIN-Medium"/>
                <a:ea typeface="MS PGothic"/>
              </a:rPr>
              <a:t>íbrio Energét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quadro1a"/>
          <p:cNvPicPr/>
          <p:nvPr/>
        </p:nvPicPr>
        <p:blipFill>
          <a:blip r:embed="rId1"/>
          <a:stretch/>
        </p:blipFill>
        <p:spPr>
          <a:xfrm>
            <a:off x="1467000" y="2050920"/>
            <a:ext cx="6207120" cy="275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quadro2a"/>
          <p:cNvPicPr/>
          <p:nvPr/>
        </p:nvPicPr>
        <p:blipFill>
          <a:blip r:embed="rId1"/>
          <a:stretch/>
        </p:blipFill>
        <p:spPr>
          <a:xfrm>
            <a:off x="1467000" y="2050920"/>
            <a:ext cx="6207120" cy="27561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1603440" y="446040"/>
            <a:ext cx="638640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5b7b8c"/>
                </a:solidFill>
                <a:latin typeface="DIN-Medium"/>
              </a:rPr>
              <a:t>Equil</a:t>
            </a:r>
            <a:r>
              <a:rPr b="0" lang="pt-PT" sz="3000" spc="-1" strike="noStrike">
                <a:solidFill>
                  <a:srgbClr val="5b7b8c"/>
                </a:solidFill>
                <a:latin typeface="DIN-Medium"/>
                <a:ea typeface="MS PGothic"/>
              </a:rPr>
              <a:t>íbrio Energét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quadro3"/>
          <p:cNvPicPr/>
          <p:nvPr/>
        </p:nvPicPr>
        <p:blipFill>
          <a:blip r:embed="rId1"/>
          <a:stretch/>
        </p:blipFill>
        <p:spPr>
          <a:xfrm>
            <a:off x="1468440" y="2050920"/>
            <a:ext cx="6203880" cy="275616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3"/>
          <p:cNvSpPr/>
          <p:nvPr/>
        </p:nvSpPr>
        <p:spPr>
          <a:xfrm>
            <a:off x="1603440" y="446040"/>
            <a:ext cx="638640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5b7b8c"/>
                </a:solidFill>
                <a:latin typeface="DIN-Medium"/>
              </a:rPr>
              <a:t>Equil</a:t>
            </a:r>
            <a:r>
              <a:rPr b="0" lang="pt-PT" sz="3000" spc="-1" strike="noStrike">
                <a:solidFill>
                  <a:srgbClr val="5b7b8c"/>
                </a:solidFill>
                <a:latin typeface="DIN-Medium"/>
                <a:ea typeface="MS PGothic"/>
              </a:rPr>
              <a:t>íbrio Energét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quadro3"/>
          <p:cNvPicPr/>
          <p:nvPr/>
        </p:nvPicPr>
        <p:blipFill>
          <a:blip r:embed="rId1"/>
          <a:stretch/>
        </p:blipFill>
        <p:spPr>
          <a:xfrm>
            <a:off x="179280" y="1268280"/>
            <a:ext cx="6203880" cy="27561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4211640" y="476280"/>
            <a:ext cx="4321080" cy="6285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5b7b8c"/>
                </a:solidFill>
                <a:latin typeface="DIN-Medium"/>
              </a:rPr>
              <a:t>Equil</a:t>
            </a:r>
            <a:r>
              <a:rPr b="1" lang="pt-PT" sz="3000" spc="-1" strike="noStrike">
                <a:solidFill>
                  <a:srgbClr val="5b7b8c"/>
                </a:solidFill>
                <a:latin typeface="DIN-Medium"/>
                <a:ea typeface="MS PGothic"/>
              </a:rPr>
              <a:t>íbrio</a:t>
            </a:r>
            <a:r>
              <a:rPr b="0" lang="pt-PT" sz="3000" spc="-1" strike="noStrike">
                <a:solidFill>
                  <a:srgbClr val="5b7b8c"/>
                </a:solidFill>
                <a:latin typeface="DIN-Medium"/>
                <a:ea typeface="MS PGothic"/>
              </a:rPr>
              <a:t> </a:t>
            </a:r>
            <a:r>
              <a:rPr b="1" lang="pt-PT" sz="3000" spc="-1" strike="noStrike">
                <a:solidFill>
                  <a:srgbClr val="5b7b8c"/>
                </a:solidFill>
                <a:latin typeface="DIN-Medium"/>
                <a:ea typeface="MS PGothic"/>
              </a:rPr>
              <a:t>Energét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179280" y="5084640"/>
            <a:ext cx="532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Um equilíbrio energético positivo de 2Kcal/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Kg em 10 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1476360" y="5516640"/>
            <a:ext cx="503280" cy="288720"/>
          </a:xfrm>
          <a:custGeom>
            <a:avLst/>
            <a:gdLst>
              <a:gd name="textAreaLeft" fmla="*/ 67320 w 503280"/>
              <a:gd name="textAreaRight" fmla="*/ 435960 w 503280"/>
              <a:gd name="textAreaTop" fmla="*/ 50400 h 288720"/>
              <a:gd name="textAreaBottom" fmla="*/ 209520 h 28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Balanço energético"/>
          <p:cNvPicPr/>
          <p:nvPr/>
        </p:nvPicPr>
        <p:blipFill>
          <a:blip r:embed="rId2"/>
          <a:stretch/>
        </p:blipFill>
        <p:spPr>
          <a:xfrm>
            <a:off x="5718240" y="4430880"/>
            <a:ext cx="2957400" cy="20224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7"/>
          <p:cNvSpPr/>
          <p:nvPr/>
        </p:nvSpPr>
        <p:spPr>
          <a:xfrm>
            <a:off x="324000" y="4292640"/>
            <a:ext cx="5184720" cy="6285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5b7b8c"/>
                </a:solidFill>
                <a:latin typeface="DIN-Medium"/>
              </a:rPr>
              <a:t>(Des) Equil</a:t>
            </a:r>
            <a:r>
              <a:rPr b="1" lang="pt-PT" sz="3000" spc="-1" strike="noStrike">
                <a:solidFill>
                  <a:srgbClr val="5b7b8c"/>
                </a:solidFill>
                <a:latin typeface="DIN-Medium"/>
                <a:ea typeface="MS PGothic"/>
              </a:rPr>
              <a:t>íbrio</a:t>
            </a:r>
            <a:r>
              <a:rPr b="0" lang="pt-PT" sz="3000" spc="-1" strike="noStrike">
                <a:solidFill>
                  <a:srgbClr val="5b7b8c"/>
                </a:solidFill>
                <a:latin typeface="DIN-Medium"/>
                <a:ea typeface="MS PGothic"/>
              </a:rPr>
              <a:t> </a:t>
            </a:r>
            <a:r>
              <a:rPr b="1" lang="pt-PT" sz="3000" spc="-1" strike="noStrike">
                <a:solidFill>
                  <a:srgbClr val="5b7b8c"/>
                </a:solidFill>
                <a:latin typeface="DIN-Medium"/>
                <a:ea typeface="MS PGothic"/>
              </a:rPr>
              <a:t>Energét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38988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Estar Sent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107429007"/>
          <p:cNvPicPr/>
          <p:nvPr/>
        </p:nvPicPr>
        <p:blipFill>
          <a:blip r:embed="rId1"/>
          <a:stretch/>
        </p:blipFill>
        <p:spPr>
          <a:xfrm>
            <a:off x="4505400" y="1197000"/>
            <a:ext cx="4638600" cy="3352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102674991"/>
          <p:cNvPicPr/>
          <p:nvPr/>
        </p:nvPicPr>
        <p:blipFill>
          <a:blip r:embed="rId2"/>
          <a:stretch/>
        </p:blipFill>
        <p:spPr>
          <a:xfrm>
            <a:off x="0" y="3068640"/>
            <a:ext cx="4514760" cy="342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5003640" y="5157720"/>
          <a:ext cx="3754440" cy="1371600"/>
        </p:xfrm>
        <a:graphic>
          <a:graphicData uri="http://schemas.openxmlformats.org/drawingml/2006/table">
            <a:tbl>
              <a:tblPr/>
              <a:tblGrid>
                <a:gridCol w="1878120"/>
                <a:gridCol w="187632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to Energético (Kcal)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K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K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4920" y="764640"/>
            <a:ext cx="35290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Sur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826920" y="4292640"/>
          <a:ext cx="3754440" cy="1371600"/>
        </p:xfrm>
        <a:graphic>
          <a:graphicData uri="http://schemas.openxmlformats.org/drawingml/2006/table">
            <a:tbl>
              <a:tblPr/>
              <a:tblGrid>
                <a:gridCol w="1878120"/>
                <a:gridCol w="187632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to Energético (Kcal)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K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K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1" name="Picture 17" descr="95009448"/>
          <p:cNvPicPr/>
          <p:nvPr/>
        </p:nvPicPr>
        <p:blipFill>
          <a:blip r:embed="rId1"/>
          <a:stretch/>
        </p:blipFill>
        <p:spPr>
          <a:xfrm>
            <a:off x="5076720" y="1197000"/>
            <a:ext cx="294804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5113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Danç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5003640" y="5157720"/>
          <a:ext cx="3754440" cy="1371600"/>
        </p:xfrm>
        <a:graphic>
          <a:graphicData uri="http://schemas.openxmlformats.org/drawingml/2006/table">
            <a:tbl>
              <a:tblPr/>
              <a:tblGrid>
                <a:gridCol w="1878120"/>
                <a:gridCol w="187632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to Energético (Kcal)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K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K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4" name="Picture 18" descr="stock-vector-people-jumping-vector-8309284"/>
          <p:cNvPicPr/>
          <p:nvPr/>
        </p:nvPicPr>
        <p:blipFill>
          <a:blip r:embed="rId1"/>
          <a:stretch/>
        </p:blipFill>
        <p:spPr>
          <a:xfrm>
            <a:off x="900000" y="1341360"/>
            <a:ext cx="3930840" cy="41054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9"/>
          <p:cNvSpPr/>
          <p:nvPr/>
        </p:nvSpPr>
        <p:spPr>
          <a:xfrm>
            <a:off x="1116000" y="5229360"/>
            <a:ext cx="273528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38988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Sk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195640" y="5229360"/>
          <a:ext cx="3754440" cy="1371600"/>
        </p:xfrm>
        <a:graphic>
          <a:graphicData uri="http://schemas.openxmlformats.org/drawingml/2006/table">
            <a:tbl>
              <a:tblPr/>
              <a:tblGrid>
                <a:gridCol w="1877760"/>
                <a:gridCol w="187668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to Energético (Kcal)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K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K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8" name="Picture 17" descr="97422473"/>
          <p:cNvPicPr/>
          <p:nvPr/>
        </p:nvPicPr>
        <p:blipFill>
          <a:blip r:embed="rId1"/>
          <a:stretch/>
        </p:blipFill>
        <p:spPr>
          <a:xfrm>
            <a:off x="0" y="1413000"/>
            <a:ext cx="4321080" cy="3024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98266551"/>
          <p:cNvPicPr/>
          <p:nvPr/>
        </p:nvPicPr>
        <p:blipFill>
          <a:blip r:embed="rId2"/>
          <a:stretch/>
        </p:blipFill>
        <p:spPr>
          <a:xfrm>
            <a:off x="4572000" y="1413000"/>
            <a:ext cx="4321080" cy="29527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19"/>
          <p:cNvSpPr/>
          <p:nvPr/>
        </p:nvSpPr>
        <p:spPr>
          <a:xfrm>
            <a:off x="4643280" y="404640"/>
            <a:ext cx="389916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Corr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9T21:05:52Z</dcterms:created>
  <dc:creator>Teresa Maia</dc:creator>
  <dc:description/>
  <dc:language>en-US</dc:language>
  <cp:lastModifiedBy>António Almeida</cp:lastModifiedBy>
  <dcterms:modified xsi:type="dcterms:W3CDTF">2012-06-28T17:01:44Z</dcterms:modified>
  <cp:revision>115</cp:revision>
  <dc:subject/>
  <dc:title>Diapositivo 1</dc:title>
</cp:coreProperties>
</file>